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5D3-F847-4062-B80C-7E8F2B42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754-2ECC-4D35-BF01-B0F84911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8BA-E182-4D15-9549-C190639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B03-3059-43EB-ADE8-C69BA1F2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D2D9-06B7-45D2-A878-F58B8D87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F46-92DD-45DD-8F66-D09ECDFD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DC1-C58A-443B-A6AC-ABD37BFA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3EA6-DCDC-4723-9E40-5B71CBCC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48E2-DF3F-4B8E-BE82-1930F858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27D-D6F0-48DE-93B0-92A2EA8E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EFA-A511-4C6C-990A-7F238665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151-9A2D-439C-A053-7414E6E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980-0152-4C2C-A58D-A63B70A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998-6333-4721-841B-936633A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B47-429B-4422-8A19-9669C7AA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37BD-6E29-47B9-84BD-110E3486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E365-932C-4FB5-B16E-B70EA96F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955-F4F8-4F4C-AEF0-1262A9D3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B40-1BA2-4075-BC56-39B28C7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A8E-5359-4157-A6A2-69091FF5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8F7-A7DF-4446-8750-B97BC7D0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6D6-0BDF-4DF5-BBF1-2CD44F4A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F3E-3663-4142-940A-A0CD8D9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F34-2AF8-43F3-A851-262B006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FB31-5EE7-45BE-9037-43FCEC5679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1C48-DF0C-49B1-BFBC-6766FC1825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 44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rategies and 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Verk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CF College of Education and Human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delivery mode, a way by which you deliver the content of th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lso known as didactic, explicit, expository, or traditional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is basically                            passed on from                                those who know                               to those who don’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678640" y="4191120"/>
            <a:ext cx="308448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secondary level, direct                                      instruction tends to be based                          on textbook re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tends to be lecture in form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anning and questioning                        are teacher-centered (i.e., not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student need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576840" y="2209680"/>
            <a:ext cx="20336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be used for teaching facts, rules, and action sequ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eaching                                       units of the content so                                                  they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embe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he low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the cognitive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end to be convergent (having only one answer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Two cognitive domains.png"/>
          <p:cNvPicPr/>
          <p:nvPr/>
        </p:nvPicPr>
        <p:blipFill>
          <a:blip r:embed="rId1"/>
          <a:srcRect l="0" t="0" r="49610" b="0"/>
          <a:stretch/>
        </p:blipFill>
        <p:spPr>
          <a:xfrm>
            <a:off x="6400800" y="2819520"/>
            <a:ext cx="1996920" cy="1685880"/>
          </a:xfrm>
          <a:prstGeom prst="rect">
            <a:avLst/>
          </a:prstGeom>
          <a:ln w="0">
            <a:noFill/>
          </a:ln>
        </p:spPr>
      </p:pic>
      <p:sp>
        <p:nvSpPr>
          <p:cNvPr id="120" name="Striped Right Arrow 4"/>
          <p:cNvSpPr/>
          <p:nvPr/>
        </p:nvSpPr>
        <p:spPr>
          <a:xfrm rot="19245000">
            <a:off x="6086520" y="422424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0" y="133350"/>
                </a:moveTo>
                <a:lnTo>
                  <a:pt x="16669" y="133350"/>
                </a:lnTo>
                <a:lnTo>
                  <a:pt x="16669" y="400050"/>
                </a:lnTo>
                <a:lnTo>
                  <a:pt x="0" y="400050"/>
                </a:lnTo>
                <a:lnTo>
                  <a:pt x="0" y="133350"/>
                </a:lnTo>
                <a:close/>
                <a:moveTo>
                  <a:pt x="33338" y="133350"/>
                </a:moveTo>
                <a:lnTo>
                  <a:pt x="66675" y="133350"/>
                </a:lnTo>
                <a:lnTo>
                  <a:pt x="66675" y="400050"/>
                </a:lnTo>
                <a:lnTo>
                  <a:pt x="33338" y="400050"/>
                </a:lnTo>
                <a:lnTo>
                  <a:pt x="33338" y="133350"/>
                </a:lnTo>
                <a:close/>
                <a:moveTo>
                  <a:pt x="83344" y="133350"/>
                </a:moveTo>
                <a:lnTo>
                  <a:pt x="495300" y="133350"/>
                </a:lnTo>
                <a:lnTo>
                  <a:pt x="495300" y="0"/>
                </a:lnTo>
                <a:lnTo>
                  <a:pt x="762000" y="266700"/>
                </a:lnTo>
                <a:lnTo>
                  <a:pt x="495300" y="533400"/>
                </a:lnTo>
                <a:lnTo>
                  <a:pt x="495300" y="400050"/>
                </a:lnTo>
                <a:lnTo>
                  <a:pt x="83344" y="400050"/>
                </a:lnTo>
                <a:lnTo>
                  <a:pt x="83344" y="13335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straction or concept to be taught is stated by the teac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ples are given, and then the examples are provided to help illustrate the abs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200400" y="3944880"/>
            <a:ext cx="324000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quence of a Direct Teac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1030320" y="1981080"/>
            <a:ext cx="7613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vantages of Direct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the questioning tends to be convergent, this approach tends to be more time-efficient than indirect, discovery, or inquiry lessons that have a lot of groupwork and student inte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is teacher-directed, this type of lesson gives the teacher more contro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skill in questioning is required; hence, there is less need for skilled classroom interactio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Karen Verkler</dc:creator>
  <dc:description/>
  <dc:language>en-US</dc:language>
  <cp:lastModifiedBy>Karen Verkler</cp:lastModifiedBy>
  <dcterms:modified xsi:type="dcterms:W3CDTF">2017-01-01T10:22:57Z</dcterms:modified>
  <cp:revision>349</cp:revision>
  <dc:subject/>
  <dc:title>Slide 1</dc:title>
</cp:coreProperties>
</file>